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7.png" ContentType="image/png"/>
  <Override PartName="/ppt/media/image1.jpeg" ContentType="image/jpeg"/>
  <Override PartName="/ppt/media/image9.png" ContentType="image/png"/>
  <Override PartName="/ppt/media/image29.jpeg" ContentType="image/jpeg"/>
  <Override PartName="/ppt/media/image28.png" ContentType="image/png"/>
  <Override PartName="/ppt/media/image8.jpeg" ContentType="image/jpeg"/>
  <Override PartName="/ppt/media/image10.jpeg" ContentType="image/jpeg"/>
  <Override PartName="/ppt/media/image5.png" ContentType="image/png"/>
  <Override PartName="/ppt/media/image30.png" ContentType="image/png"/>
  <Override PartName="/ppt/media/image13.jpeg" ContentType="image/jpeg"/>
  <Override PartName="/ppt/media/image19.jpeg" ContentType="image/jpeg"/>
  <Override PartName="/ppt/media/image11.png" ContentType="image/png"/>
  <Override PartName="/ppt/media/image12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26.png" ContentType="image/png"/>
  <Override PartName="/ppt/media/image14.jpeg" ContentType="image/jpeg"/>
  <Override PartName="/ppt/media/image15.png" ContentType="image/png"/>
  <Override PartName="/ppt/media/image16.jpeg" ContentType="image/jpe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1.jpeg" ContentType="image/jpeg"/>
  <Override PartName="/ppt/media/image22.png" ContentType="image/png"/>
  <Override PartName="/ppt/media/image23.jpeg" ContentType="image/jpeg"/>
  <Override PartName="/ppt/media/image2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2747-B76E-4A3C-9142-96480CC00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3A46-3B1E-478E-B272-A3524FCE1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F0B468-378C-4EF4-8B17-B97F61E09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7B4894-A773-4B2B-8C40-A77161D43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D49A3A-60D1-40D7-8C97-496DE38BA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43C4AF-034A-4D1A-AE24-25470E3BD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16FFBF-7AB5-47C3-9A2E-DE9182EE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7F6970-E696-411D-BC76-EFBDC54D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0910FB-26E2-4FCC-984A-F2B248EBB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C2537A-AF72-4704-91FB-F2590CFF1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013989-3A2D-4572-AB51-5F18C5D2A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878E-6CF2-4B36-A95D-F9B9A01A9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7EA4-8EBD-4234-9F8D-D86BD9CB4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992FF-851B-4E24-9B33-20875FE90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6B825-D6A4-4AD7-9873-1E60FF5E4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359B1-1186-4A08-86B2-D65CB0CBB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A44FA-2EAF-4F3D-8918-6BCB061E0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02CD2-6D5B-486F-A7D6-2771FFF06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4F765-C833-4656-B7A7-894B332E3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EAB8E-EC12-41D4-9B49-D2403519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5914-65BB-44CD-9FDE-84C1471C6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FE1F0-BEEE-416A-B65F-FA7FD414F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D16B6-72CF-480F-A149-50ED9246B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09E43-80AC-40BB-9C0B-F12DDF901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6C818-B9C7-49D0-9C4E-E7C3417B2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53822-E320-41ED-820B-DEDC9ABD0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F5BAA-41EF-471E-928B-F46A3628D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C90D0-B7A1-47D0-859D-E1CE24A52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1F0C7-290B-40A7-9ED0-F710AC8F3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587A2-D1A2-486C-9021-6B2DD994E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F1DCA-0042-43C0-A33D-69910ACDF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B54A-E422-4798-A781-82FD53E0E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FC759-8B3E-43EB-878A-BD2909575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237D9-C6D4-40CF-B819-48887ABDB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3A400-8BE7-4339-9BFC-5CCFC872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7E80E-BEEE-4D59-9E85-D34111995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811AD-80BC-4B05-806F-DED52FD55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AF330-BB2B-46F7-A593-CF80040B5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89AFC-004A-4685-AA53-CBE75737B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3FE8D-B57A-472F-BB6F-70E904C32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46BA1-1E3D-424F-9553-82FB60DE0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5A3FA-A93A-4E66-8966-E26D5F812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DEFF-6A97-47AC-B294-4E35AFA94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413B9-6CAD-4BDC-A96D-A190DA159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85227-E940-4FF2-A45D-2566D5ADF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5C2B7-DBB9-4E55-8596-63A7F0FC6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93906-354B-4B3D-BD08-F9F74ABD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A52F6-1D5F-420F-9CFA-0D0686DD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AA1E8-0D99-414E-ABBE-8A6BCDA14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FAFA0-DF44-44F6-85A6-3DE171031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00D80-6294-4118-8E23-FAA070DB4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6DE6A-38F5-46EA-9BD1-519749266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18D88A-695B-4B74-8F1E-4309A580E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CF72-3461-467C-80A8-87B727ED6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4F81F-6461-4573-8E39-FF593ABB2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285C05-43A5-44D6-A481-1D20954B3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C3B4F6-007B-4888-AEE2-91C4363DB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FBEABC-D409-4C84-8973-E060C06E4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2F19C-637F-4D8F-AF4A-D95DA0999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24A3A4-A3A2-4B9F-9CFB-BB953DBF4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66E59-E8B4-4AB1-9185-18403D28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04A91A-CE5E-4CDD-A5B2-867B4A328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FFC52-CE92-479D-B5A6-3BC45FE80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E6E67F-267E-4D1D-A761-E0972E69A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072F-93C5-46A0-8C8A-0477CB0C4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62F80B-C123-4921-8E1B-CB3470798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0572C2-923B-4362-9571-837AE38B2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56AAAA-3A47-490C-8D11-1ABC549E2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B7C12D-56CD-428C-BDFD-DA2A357AE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256918-AE30-432C-BB0A-790750AAE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8F062D-F16F-4741-847F-9EDF5E2C1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EE3E96-EE2D-4053-969A-512860D32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7FB067-6876-4F8B-9158-957D7DE16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70A7CB-35B9-454B-AECA-DC867B48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C1A6BE-972E-4BF5-9E47-7381AB1BA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32E5-58F0-40C1-A156-2A7E5E3C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11EDC7-582D-472C-8310-F6D852014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91F1F5-7085-4865-92BE-3BE781D0B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CD49BA-2544-403B-9FAF-A89D6101F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C0E8EB-1374-425C-B743-96F4CD108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86A729-AD2F-4569-8461-624177635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1B4D2A-800C-4776-8E7A-99BA7C477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026611-61EE-4E93-9EAA-B7FA64476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2556E1-D17F-4F4C-9E54-973C96540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BE6A26-C482-4446-A2C9-3A54C3A24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3AF4B0-4410-4B1A-A8BB-A71B6CC6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86E5-4A07-42E9-A0AA-BE3558831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3C7157-B18C-4907-850E-A6E8636B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53623F-37A4-4EF7-82F7-3C4FEA11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036268-14A9-443D-8A70-22D471AAC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E832A2-B61D-43A5-8B23-5EB8C6BEA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A9E1F6-9F82-4A20-9ABD-F9CF3B4D7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AF57D4-BD2A-44AB-BA0C-B06606EDF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18074A-AF08-4BCC-8FE9-CFB8DE859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CC6839-B4E1-48F5-B255-248C96B94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E4DE5A-226A-4348-97F8-52A190920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437EDA-A5EC-420B-9932-CA6655000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E00E-BF0C-4D52-AA83-5AE298AA6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10CD05-E667-4D3A-843B-C718B6182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8E1073-172C-4566-B3C7-64C4370C0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C22F18-EE1F-44F8-A145-5C81FFD6A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E33EA0-C70F-4948-B458-56A28EB0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AD84B5-B20D-4FD0-A68D-B9F5D231E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4AE474-83F1-42C3-A449-7D984878C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CF3AC6-341E-49B3-8D23-09DF912AD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3F26EF-C058-4004-A458-D6E163DC3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572014-0755-4EA2-8732-40F140C4D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F89508-F0D5-4E23-A2E8-746E31CA9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6 Conector recto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6 Conector recto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095B4-3D5F-4321-85FE-CB260E3C3226}" type="slidenum">
              <a:rPr b="0" lang="es-E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8 Conector recto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8 Conector recto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11 Conector recto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11 Conector recto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12 Conector recto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12 Conector recto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E8A18-79A4-4E88-9CED-B6F8EB1BB8A3}" type="slidenum">
              <a:rPr b="0" lang="es-E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6 Conector recto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6 Conector recto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8 Conector recto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8 Conector recto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11 Conector recto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11 Conector recto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4B805-B912-4124-893D-A663DBF255A7}" type="slidenum">
              <a:rPr b="0" lang="es-E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12 Conector recto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12 Conector recto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0EDC2-41ED-44AF-A8A0-E01BAF2A2473}" type="slidenum">
              <a:rPr b="0" lang="es-E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12 Conector recto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12 Conector recto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20B34-2B6D-48ED-91E3-10B245113F9C}" type="slidenum">
              <a:rPr b="0" lang="es-E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BDAFD-3F37-4DCC-9625-853F691B3C7B}" type="slidenum">
              <a:rPr b="0" lang="es-E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12 Conector recto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12 Conector recto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421EB-2B9B-4DCF-9F38-0022823230B7}" type="slidenum">
              <a:rPr b="0" lang="es-E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4196B-5330-48FE-A742-25E82EF28C49}" type="slidenum">
              <a:rPr b="0" lang="es-E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FE3A9-14BA-4881-9A14-9508A850099D}" type="slidenum">
              <a:rPr b="0" lang="es-E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2" descr=""/>
          <p:cNvPicPr/>
          <p:nvPr/>
        </p:nvPicPr>
        <p:blipFill>
          <a:blip r:embed="rId1"/>
          <a:stretch/>
        </p:blipFill>
        <p:spPr>
          <a:xfrm>
            <a:off x="182520" y="4486320"/>
            <a:ext cx="8663040" cy="132408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80520" y="328464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43329"/>
                </a:solidFill>
                <a:latin typeface="Franklin Gothic Book"/>
              </a:rPr>
              <a:t>Vivir cuesta arriba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1" name="AutoShape 5"/>
          <p:cNvSpPr/>
          <p:nvPr/>
        </p:nvSpPr>
        <p:spPr>
          <a:xfrm>
            <a:off x="2548080" y="1014480"/>
            <a:ext cx="4047840" cy="48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7"/>
          <p:cNvSpPr/>
          <p:nvPr/>
        </p:nvSpPr>
        <p:spPr>
          <a:xfrm>
            <a:off x="2548080" y="1014480"/>
            <a:ext cx="4047840" cy="48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8" descr="Sisifo"/>
          <p:cNvPicPr/>
          <p:nvPr/>
        </p:nvPicPr>
        <p:blipFill>
          <a:blip r:embed="rId2"/>
          <a:stretch/>
        </p:blipFill>
        <p:spPr>
          <a:xfrm>
            <a:off x="5003640" y="1125360"/>
            <a:ext cx="2908440" cy="3470400"/>
          </a:xfrm>
          <a:prstGeom prst="rect">
            <a:avLst/>
          </a:prstGeom>
          <a:ln w="0">
            <a:noFill/>
          </a:ln>
        </p:spPr>
      </p:pic>
      <p:sp>
        <p:nvSpPr>
          <p:cNvPr id="404" name="6 CuadroTexto"/>
          <p:cNvSpPr/>
          <p:nvPr/>
        </p:nvSpPr>
        <p:spPr>
          <a:xfrm>
            <a:off x="181080" y="5519880"/>
            <a:ext cx="8062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e3b30"/>
                </a:solidFill>
                <a:latin typeface="Arial"/>
              </a:rPr>
              <a:t>XVII Congreso de Enfermería Hematológica. Segov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e3b30"/>
                </a:solidFill>
                <a:latin typeface="Arial"/>
              </a:rPr>
              <a:t>Autor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e3b30"/>
                </a:solidFill>
                <a:latin typeface="Arial"/>
              </a:rPr>
              <a:t>Ruiz Seixas M, Vázquez Móncada M, López Rodríguez L, Praena Fernández J 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e3b30"/>
                </a:solidFill>
                <a:latin typeface="Arial"/>
              </a:rPr>
              <a:t>U G C De Hematología. H U Virgen del Rocío. Sevil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1 Título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 txBox="1"/>
          <p:nvPr/>
        </p:nvSpPr>
        <p:spPr>
          <a:xfrm>
            <a:off x="179280" y="1152360"/>
            <a:ext cx="8686800" cy="566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e3b30"/>
                </a:solidFill>
                <a:latin typeface="Franklin Gothic Book"/>
              </a:rPr>
              <a:t>Autólogo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e3b30"/>
                </a:solidFill>
                <a:latin typeface="Franklin Gothic Book"/>
              </a:rPr>
              <a:t>Mejora y aumenta la respuesta a los tratamiento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e3b30"/>
                </a:solidFill>
                <a:latin typeface="Franklin Gothic Book"/>
              </a:rPr>
              <a:t>Mejora la supervivencia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e3b30"/>
                </a:solidFill>
                <a:latin typeface="Franklin Gothic Book"/>
              </a:rPr>
              <a:t>Autólogo Tándem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e3b30"/>
                </a:solidFill>
                <a:latin typeface="Franklin Gothic Book"/>
              </a:rPr>
              <a:t>Alogénico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e3b30"/>
                </a:solidFill>
                <a:latin typeface="Franklin Gothic Book"/>
              </a:rPr>
              <a:t>Mayor tasa de remisión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e3b30"/>
                </a:solidFill>
                <a:latin typeface="Franklin Gothic Book"/>
              </a:rPr>
              <a:t>Incremento supervivencia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e3b30"/>
                </a:solidFill>
                <a:latin typeface="Franklin Gothic Book"/>
              </a:rPr>
              <a:t>Cura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e3b30"/>
                </a:solidFill>
                <a:latin typeface="Franklin Gothic Book"/>
              </a:rPr>
              <a:t>Mayor numero de muerte secundarias al tratamiento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e3b30"/>
                </a:solidFill>
                <a:latin typeface="Franklin Gothic Book"/>
              </a:rPr>
              <a:t>Ensayos clínicos. Talidomida,Lenalidomida,Bortezomib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8" name="3 Imagen" descr="Frida Kahlo despertar.jpg"/>
          <p:cNvPicPr/>
          <p:nvPr/>
        </p:nvPicPr>
        <p:blipFill>
          <a:blip r:embed="rId2"/>
          <a:stretch/>
        </p:blipFill>
        <p:spPr>
          <a:xfrm>
            <a:off x="4859280" y="2276640"/>
            <a:ext cx="3743280" cy="296856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1 Título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e3b30"/>
                </a:solidFill>
                <a:latin typeface="Franklin Gothic Book"/>
              </a:rPr>
              <a:t>Inmunomoduladores: Interferón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e3b30"/>
                </a:solidFill>
                <a:latin typeface="Franklin Gothic Book"/>
              </a:rPr>
              <a:t>Inhiben el crecimiento de las células plasmática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e3b30"/>
                </a:solidFill>
                <a:latin typeface="Franklin Gothic Book"/>
              </a:rPr>
              <a:t>Prolongan la respuesta de remisión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e3b30"/>
                </a:solidFill>
                <a:latin typeface="Franklin Gothic Book"/>
              </a:rPr>
              <a:t>Mejoran la supervivencia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e3b30"/>
                </a:solidFill>
                <a:latin typeface="Franklin Gothic Book"/>
              </a:rPr>
              <a:t>Talidomida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e3b30"/>
                </a:solidFill>
                <a:latin typeface="Franklin Gothic Book"/>
              </a:rPr>
              <a:t>Mejores resultado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e3b30"/>
                </a:solidFill>
                <a:latin typeface="Franklin Gothic Book"/>
              </a:rPr>
              <a:t>Menos toxicidad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1" name="3 Imagen" descr="imagesCAH7ZE5Y.jpg"/>
          <p:cNvPicPr/>
          <p:nvPr/>
        </p:nvPicPr>
        <p:blipFill>
          <a:blip r:embed="rId2"/>
          <a:stretch/>
        </p:blipFill>
        <p:spPr>
          <a:xfrm>
            <a:off x="5292720" y="3092400"/>
            <a:ext cx="2825640" cy="336096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1 Título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e3b30"/>
                </a:solidFill>
                <a:latin typeface="Franklin Gothic Book"/>
              </a:rPr>
              <a:t>Control de síntomas y complicacione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e3b30"/>
                </a:solidFill>
                <a:latin typeface="Franklin Gothic Book"/>
              </a:rPr>
              <a:t>Mejorar la calidad de vida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e3b30"/>
                </a:solidFill>
                <a:latin typeface="Franklin Gothic Book"/>
              </a:rPr>
              <a:t>Comorbilidad: Disminuir la mortalidad secundaria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1" lang="es-ES" sz="2800" spc="-1" strike="noStrike">
                <a:solidFill>
                  <a:srgbClr val="4e3b30"/>
                </a:solidFill>
                <a:latin typeface="Franklin Gothic Book"/>
              </a:rPr>
              <a:t>Bifosfatos</a:t>
            </a:r>
            <a:r>
              <a:rPr b="0" lang="es-ES" sz="2800" spc="-1" strike="noStrike">
                <a:solidFill>
                  <a:srgbClr val="4e3b30"/>
                </a:solidFill>
                <a:latin typeface="Franklin Gothic Book"/>
              </a:rPr>
              <a:t>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lang="es-ES" sz="2800" spc="-1" strike="noStrike">
                <a:solidFill>
                  <a:srgbClr val="4e3b30"/>
                </a:solidFill>
                <a:latin typeface="Franklin Gothic Book"/>
              </a:rPr>
              <a:t>Osteoblastos     Osteoclasto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1" lang="es-ES" sz="2800" spc="-1" strike="noStrike">
                <a:solidFill>
                  <a:srgbClr val="4e3b30"/>
                </a:solidFill>
                <a:latin typeface="Franklin Gothic Book"/>
              </a:rPr>
              <a:t>Quiroplastia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ES" sz="2800" spc="-1" strike="noStrike">
                <a:solidFill>
                  <a:srgbClr val="4e3b30"/>
                </a:solidFill>
                <a:latin typeface="Franklin Gothic Book"/>
              </a:rPr>
              <a:t>Disminución del dolor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1" lang="es-ES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es-ES" sz="2800" spc="-1" strike="noStrike">
                <a:solidFill>
                  <a:srgbClr val="4e3b30"/>
                </a:solidFill>
                <a:latin typeface="Franklin Gothic Book"/>
              </a:rPr>
              <a:t>Eritropoyetina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4" name="3 Flecha abajo"/>
          <p:cNvSpPr/>
          <p:nvPr/>
        </p:nvSpPr>
        <p:spPr>
          <a:xfrm flipH="1" rot="10800000">
            <a:off x="467280" y="3644640"/>
            <a:ext cx="314280" cy="647640"/>
          </a:xfrm>
          <a:prstGeom prst="downArrow">
            <a:avLst>
              <a:gd name="adj1" fmla="val 50000"/>
              <a:gd name="adj2" fmla="val 50001"/>
            </a:avLst>
          </a:prstGeom>
          <a:solidFill>
            <a:srgbClr val="f0a22e"/>
          </a:solidFill>
          <a:ln w="381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4 Flecha abajo"/>
          <p:cNvSpPr/>
          <p:nvPr/>
        </p:nvSpPr>
        <p:spPr>
          <a:xfrm flipH="1">
            <a:off x="2842560" y="3645000"/>
            <a:ext cx="314280" cy="647640"/>
          </a:xfrm>
          <a:prstGeom prst="downArrow">
            <a:avLst>
              <a:gd name="adj1" fmla="val 50000"/>
              <a:gd name="adj2" fmla="val 50001"/>
            </a:avLst>
          </a:prstGeom>
          <a:solidFill>
            <a:srgbClr val="f0a22e"/>
          </a:solidFill>
          <a:ln w="381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5 Imagen" descr="imagesCAN3LIP3.jpg"/>
          <p:cNvPicPr/>
          <p:nvPr/>
        </p:nvPicPr>
        <p:blipFill>
          <a:blip r:embed="rId2"/>
          <a:stretch/>
        </p:blipFill>
        <p:spPr>
          <a:xfrm>
            <a:off x="6875640" y="3429000"/>
            <a:ext cx="1809720" cy="252396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1 Título" descr=""/>
          <p:cNvPicPr/>
          <p:nvPr/>
        </p:nvPicPr>
        <p:blipFill>
          <a:blip r:embed="rId1"/>
          <a:stretch/>
        </p:blipFill>
        <p:spPr>
          <a:xfrm>
            <a:off x="133200" y="450720"/>
            <a:ext cx="8864640" cy="106056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e3b30"/>
                </a:solidFill>
                <a:latin typeface="Franklin Gothic Book"/>
              </a:rPr>
              <a:t>Citostáticos: Melfalán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e3b30"/>
                </a:solidFill>
                <a:latin typeface="Franklin Gothic Book"/>
              </a:rPr>
              <a:t>Esteroide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e3b30"/>
                </a:solidFill>
                <a:latin typeface="Franklin Gothic Book"/>
              </a:rPr>
              <a:t>Talidomida, Lenalidomida, Bortezomib      </a:t>
            </a:r>
            <a:r>
              <a:rPr b="0" lang="es-ES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4e3b30"/>
                </a:solidFill>
                <a:latin typeface="Franklin Gothic Book"/>
              </a:rPr>
              <a:t>       </a:t>
            </a:r>
            <a:r>
              <a:rPr b="1" lang="es-ES" sz="3200" spc="-1" strike="noStrike">
                <a:solidFill>
                  <a:srgbClr val="4e3b30"/>
                </a:solidFill>
                <a:latin typeface="Franklin Gothic Book"/>
              </a:rPr>
              <a:t>Asociación = Incremento supervivencia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9" name="4 Imagen" descr="imagesCABO9RRI.jpg"/>
          <p:cNvPicPr/>
          <p:nvPr/>
        </p:nvPicPr>
        <p:blipFill>
          <a:blip r:embed="rId2"/>
          <a:stretch/>
        </p:blipFill>
        <p:spPr>
          <a:xfrm>
            <a:off x="2700360" y="3946680"/>
            <a:ext cx="3816360" cy="250668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1 CuadroTexto"/>
          <p:cNvSpPr/>
          <p:nvPr/>
        </p:nvSpPr>
        <p:spPr>
          <a:xfrm>
            <a:off x="539640" y="765000"/>
            <a:ext cx="8064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e3b30"/>
                </a:solidFill>
                <a:latin typeface="Franklin Gothic Medium"/>
              </a:rPr>
              <a:t>Enfermedad crónica con baja calidad de v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de810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e3b30"/>
                </a:solidFill>
                <a:latin typeface="Franklin Gothic Medium"/>
              </a:rPr>
              <a:t>Interfiere en las actividades so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de810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e3b30"/>
                </a:solidFill>
                <a:latin typeface="Franklin Gothic Medium"/>
              </a:rPr>
              <a:t>Dificulta las actividades de la vida di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de810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e3b30"/>
                </a:solidFill>
                <a:latin typeface="Franklin Gothic Medium"/>
              </a:rPr>
              <a:t>Merma la autonomía. Paciente depend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de810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e3b30"/>
                </a:solidFill>
                <a:latin typeface="Franklin Gothic Medium"/>
              </a:rPr>
              <a:t>Alteración de las necesidades bás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e3b30"/>
                </a:solidFill>
                <a:latin typeface="Franklin Gothic Medium"/>
              </a:rPr>
              <a:t>Fatiga, debilidad, riesgo de infección, dolor, deterioro de la movilidad, déficit de autocuidados, deterioro de la imagen, baja autoestima, disfunción sexual, trastornos del sueño, deterioro de la alimentación y la elimin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3 Imagen" descr="puzzle%20pieces.png"/>
          <p:cNvPicPr/>
          <p:nvPr/>
        </p:nvPicPr>
        <p:blipFill>
          <a:blip r:embed="rId1"/>
          <a:stretch/>
        </p:blipFill>
        <p:spPr>
          <a:xfrm rot="1954200">
            <a:off x="3005280" y="2112480"/>
            <a:ext cx="2827080" cy="282888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1 Título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 txBox="1"/>
          <p:nvPr/>
        </p:nvSpPr>
        <p:spPr>
          <a:xfrm>
            <a:off x="304560" y="1095120"/>
            <a:ext cx="4190760" cy="636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e3b30"/>
                </a:solidFill>
                <a:latin typeface="Franklin Gothic Book"/>
              </a:rPr>
              <a:t>Alimentación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e3b30"/>
                </a:solidFill>
                <a:latin typeface="Franklin Gothic Book"/>
              </a:rPr>
              <a:t>Nutrición alterada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e3b30"/>
                </a:solidFill>
                <a:latin typeface="Franklin Gothic Book"/>
              </a:rPr>
              <a:t>Eliminación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e3b30"/>
                </a:solidFill>
                <a:latin typeface="Franklin Gothic Book"/>
              </a:rPr>
              <a:t>Alteración de la excreción urinaria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e3b30"/>
                </a:solidFill>
                <a:latin typeface="Franklin Gothic Book"/>
              </a:rPr>
              <a:t>Estreñimiento. Déficit del autocuid: uso del orinal/WC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e3b30"/>
                </a:solidFill>
                <a:latin typeface="Franklin Gothic Book"/>
              </a:rPr>
              <a:t>Movilización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e3b30"/>
                </a:solidFill>
                <a:latin typeface="Franklin Gothic Book"/>
              </a:rPr>
              <a:t>Trastorno de la movilidad física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e3b30"/>
                </a:solidFill>
                <a:latin typeface="Franklin Gothic Book"/>
              </a:rPr>
              <a:t>Alto riesgo de intolerancia a la actividad. Fatiga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e3b30"/>
                </a:solidFill>
                <a:latin typeface="Franklin Gothic Book"/>
              </a:rPr>
              <a:t>Reposo/sueño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e3b30"/>
                </a:solidFill>
                <a:latin typeface="Franklin Gothic Book"/>
              </a:rPr>
              <a:t>Alteración del patrón del sueño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e3b30"/>
                </a:solidFill>
                <a:latin typeface="Franklin Gothic Book"/>
              </a:rPr>
              <a:t>Vestirse y elegir la ropa adecuada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e3b30"/>
                </a:solidFill>
                <a:latin typeface="Franklin Gothic Book"/>
              </a:rPr>
              <a:t>Déficit autocuid:vestido/acicalami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e3b30"/>
                </a:solidFill>
                <a:latin typeface="Franklin Gothic Book"/>
              </a:rPr>
              <a:t>Higiene/Piel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e3b30"/>
                </a:solidFill>
                <a:latin typeface="Franklin Gothic Book"/>
              </a:rPr>
              <a:t>Déficit de autocuid: baño/higien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e3b30"/>
                </a:solidFill>
                <a:latin typeface="Franklin Gothic Book"/>
              </a:rPr>
              <a:t>Alto riesgo de la integridad cutánea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4647960" y="1052640"/>
            <a:ext cx="43434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e3b30"/>
                </a:solidFill>
                <a:latin typeface="Franklin Gothic Book"/>
              </a:rPr>
              <a:t>Seguridad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e3b30"/>
                </a:solidFill>
                <a:latin typeface="Franklin Gothic Book"/>
              </a:rPr>
              <a:t>Alto riesgo de lesión/traumatismo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e3b30"/>
                </a:solidFill>
                <a:latin typeface="Franklin Gothic Book"/>
              </a:rPr>
              <a:t>Dolor. Ansiedad, temor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e3b30"/>
                </a:solidFill>
                <a:latin typeface="Franklin Gothic Book"/>
              </a:rPr>
              <a:t>Comunicación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e3b30"/>
                </a:solidFill>
                <a:latin typeface="Franklin Gothic Book"/>
              </a:rPr>
              <a:t>Deterioro de la interacción social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e3b30"/>
                </a:solidFill>
                <a:latin typeface="Franklin Gothic Book"/>
              </a:rPr>
              <a:t>Alteración del  patrón sexual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e3b30"/>
                </a:solidFill>
                <a:latin typeface="Franklin Gothic Book"/>
              </a:rPr>
              <a:t>Religión/creencia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e3b30"/>
                </a:solidFill>
                <a:latin typeface="Franklin Gothic Book"/>
              </a:rPr>
              <a:t>Desesperanza. Impotencia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e3b30"/>
                </a:solidFill>
                <a:latin typeface="Franklin Gothic Book"/>
              </a:rPr>
              <a:t>Trabajar/realizarse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e3b30"/>
                </a:solidFill>
                <a:latin typeface="Franklin Gothic Book"/>
              </a:rPr>
              <a:t>Alteración en el desempeño del rol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e3b30"/>
                </a:solidFill>
                <a:latin typeface="Franklin Gothic Book"/>
              </a:rPr>
              <a:t>Dificultades  mantenimiento  del hogar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e3b30"/>
                </a:solidFill>
                <a:latin typeface="Franklin Gothic Book"/>
              </a:rPr>
              <a:t>Trastornos de la imagen corporal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e3b30"/>
                </a:solidFill>
                <a:latin typeface="Franklin Gothic Book"/>
              </a:rPr>
              <a:t>Trastornos de la autoestima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e3b30"/>
                </a:solidFill>
                <a:latin typeface="Franklin Gothic Book"/>
              </a:rPr>
              <a:t>Actividades lúdicas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e3b30"/>
                </a:solidFill>
                <a:latin typeface="Franklin Gothic Book"/>
              </a:rPr>
              <a:t>Déficit de actividades recreativas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e3b30"/>
                </a:solidFill>
                <a:latin typeface="Franklin Gothic Book"/>
              </a:rPr>
              <a:t>Aprender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e3b30"/>
                </a:solidFill>
                <a:latin typeface="Franklin Gothic Book"/>
              </a:rPr>
              <a:t>Conocimientos deficientes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push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1 Título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e3b30"/>
                </a:solidFill>
                <a:latin typeface="Franklin Gothic Book"/>
              </a:rPr>
              <a:t>Control de complicacione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e3b30"/>
                </a:solidFill>
                <a:latin typeface="Franklin Gothic Book"/>
              </a:rPr>
              <a:t>Asesoramiento dietético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e3b30"/>
                </a:solidFill>
                <a:latin typeface="Franklin Gothic Book"/>
              </a:rPr>
              <a:t>Administración de medicamento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e3b30"/>
                </a:solidFill>
                <a:latin typeface="Franklin Gothic Book"/>
              </a:rPr>
              <a:t>Promoción del ejercicio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e3b30"/>
                </a:solidFill>
                <a:latin typeface="Franklin Gothic Book"/>
              </a:rPr>
              <a:t>Intervencione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e3b30"/>
                </a:solidFill>
                <a:latin typeface="Franklin Gothic Book"/>
              </a:rPr>
              <a:t>Promoción de la movilidad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e3b30"/>
                </a:solidFill>
                <a:latin typeface="Franklin Gothic Book"/>
              </a:rPr>
              <a:t>Aumento de la seguridad- Disminución el riesgo de caída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e3b30"/>
                </a:solidFill>
                <a:latin typeface="Franklin Gothic Book"/>
              </a:rPr>
              <a:t>Apoyo y asesoramiento- minimizar consecuencias de la enfermedad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7" name="3 Imagen" descr="imagesCASZ4B2I.jpg"/>
          <p:cNvPicPr/>
          <p:nvPr/>
        </p:nvPicPr>
        <p:blipFill>
          <a:blip r:embed="rId2"/>
          <a:stretch/>
        </p:blipFill>
        <p:spPr>
          <a:xfrm>
            <a:off x="5867280" y="1487520"/>
            <a:ext cx="3097440" cy="26622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1 Título" descr=""/>
          <p:cNvPicPr/>
          <p:nvPr/>
        </p:nvPicPr>
        <p:blipFill>
          <a:blip r:embed="rId1"/>
          <a:stretch/>
        </p:blipFill>
        <p:spPr>
          <a:xfrm>
            <a:off x="4011480" y="5425920"/>
            <a:ext cx="4199040" cy="1322640"/>
          </a:xfrm>
          <a:prstGeom prst="rect">
            <a:avLst/>
          </a:prstGeom>
          <a:ln w="0">
            <a:noFill/>
          </a:ln>
        </p:spPr>
      </p:pic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394920" y="438624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43329"/>
                </a:solidFill>
                <a:latin typeface="Franklin Gothic Book"/>
              </a:rPr>
              <a:t>El papel de enfermería es fundamental en todo lo que rodea a los pacientes con MM, con independencia del tratamiento elegido. La identificación y valoración de los problemas reales o potenciales nos permitirá un enfoque global, físico, psíquico, y social de la atención y los cuidados, donde la educación y prevención tienen un lugar significativo para la reducción del impacto que sobre el paciente y familia tienen la enfermedad, las patologías asociadas y los tratamientos, y con ello mejorar el bienestar y la calidad de vida del paciente y su entorno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push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1 Título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304920" y="11970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e3b30"/>
                </a:solidFill>
                <a:latin typeface="Franklin Gothic Book"/>
              </a:rPr>
              <a:t>Esta enfermedad es un verdadero sufrimiento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74320" indent="-2743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e3b30"/>
                </a:solidFill>
                <a:latin typeface="Franklin Gothic Book"/>
              </a:rPr>
              <a:t> “</a:t>
            </a:r>
            <a:r>
              <a:rPr b="0" lang="es-ES" sz="2400" spc="-1" strike="noStrike">
                <a:solidFill>
                  <a:srgbClr val="4e3b30"/>
                </a:solidFill>
                <a:latin typeface="Franklin Gothic Book"/>
              </a:rPr>
              <a:t>Por que me ha tenido que tocar a mi”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74320" indent="-2743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e3b30"/>
                </a:solidFill>
                <a:latin typeface="Franklin Gothic Book"/>
              </a:rPr>
              <a:t>“</a:t>
            </a:r>
            <a:r>
              <a:rPr b="0" lang="es-ES" sz="2400" spc="-1" strike="noStrike">
                <a:solidFill>
                  <a:srgbClr val="4e3b30"/>
                </a:solidFill>
                <a:latin typeface="Franklin Gothic Book"/>
              </a:rPr>
              <a:t>No puedo alcanzar al cepillo de dientes”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74320" indent="-2743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e3b30"/>
                </a:solidFill>
                <a:latin typeface="Franklin Gothic Book"/>
              </a:rPr>
              <a:t>“</a:t>
            </a:r>
            <a:r>
              <a:rPr b="0" lang="es-ES" sz="2400" spc="-1" strike="noStrike">
                <a:solidFill>
                  <a:srgbClr val="4e3b30"/>
                </a:solidFill>
                <a:latin typeface="Franklin Gothic Book"/>
              </a:rPr>
              <a:t>He perdido 15 cm de estatura y mi espalda se ha curvado”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74320" indent="-2743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e3b30"/>
                </a:solidFill>
                <a:latin typeface="Franklin Gothic Book"/>
              </a:rPr>
              <a:t>“</a:t>
            </a:r>
            <a:r>
              <a:rPr b="0" lang="es-ES" sz="2400" spc="-1" strike="noStrike">
                <a:solidFill>
                  <a:srgbClr val="4e3b30"/>
                </a:solidFill>
                <a:latin typeface="Franklin Gothic Book"/>
              </a:rPr>
              <a:t>He perdido el trabajo”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74320" indent="-2743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e3b30"/>
                </a:solidFill>
                <a:latin typeface="Franklin Gothic Book"/>
              </a:rPr>
              <a:t>“</a:t>
            </a:r>
            <a:r>
              <a:rPr b="0" lang="es-ES" sz="2400" spc="-1" strike="noStrike">
                <a:solidFill>
                  <a:srgbClr val="4e3b30"/>
                </a:solidFill>
                <a:latin typeface="Franklin Gothic Book"/>
              </a:rPr>
              <a:t>Sufro porque siento la pena de mi familia cuando me mira”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74320" indent="-2743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e3b30"/>
                </a:solidFill>
                <a:latin typeface="Franklin Gothic Book"/>
              </a:rPr>
              <a:t>“</a:t>
            </a:r>
            <a:r>
              <a:rPr b="0" lang="es-ES" sz="2400" spc="-1" strike="noStrike">
                <a:solidFill>
                  <a:srgbClr val="4e3b30"/>
                </a:solidFill>
                <a:latin typeface="Franklin Gothic Book"/>
              </a:rPr>
              <a:t>Estoy esperanzado con los nuevos tratamientos”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74320" indent="-2743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4e3b30"/>
                </a:solidFill>
                <a:latin typeface="Franklin Gothic Book"/>
              </a:rPr>
              <a:t>Mi consejo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74320" indent="-2743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e3b30"/>
                </a:solidFill>
                <a:latin typeface="Franklin Gothic Book"/>
              </a:rPr>
              <a:t>Tener esperanza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4320" indent="-2743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es-ES" sz="2800" spc="-1" strike="noStrike">
                <a:solidFill>
                  <a:srgbClr val="4e3b30"/>
                </a:solidFill>
                <a:latin typeface="Franklin Gothic Book"/>
              </a:rPr>
              <a:t>Desechar los pensamientos negativo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4320" indent="-2743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e3b30"/>
                </a:solidFill>
                <a:latin typeface="Franklin Gothic Book"/>
              </a:rPr>
              <a:t>Aprovechar los buenos momento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4320" indent="-2743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e3b30"/>
                </a:solidFill>
                <a:latin typeface="Franklin Gothic Book"/>
              </a:rPr>
              <a:t>Y nunca cerrar las puerta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push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611280" y="1614240"/>
            <a:ext cx="8007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e3b30"/>
                </a:solidFill>
                <a:latin typeface="Franklin Gothic Book"/>
              </a:rPr>
              <a:t>Proliferación de células plasmática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e3b30"/>
                </a:solidFill>
                <a:latin typeface="Franklin Gothic Book"/>
              </a:rPr>
              <a:t>1% de las neoplasias. 10% de las hematológica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e3b30"/>
                </a:solidFill>
                <a:latin typeface="Franklin Gothic Book"/>
              </a:rPr>
              <a:t>En todas las geografías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e3b30"/>
                </a:solidFill>
                <a:latin typeface="Franklin Gothic Book"/>
              </a:rPr>
              <a:t>En todas las razas. &lt; asiáticos 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ES" sz="3200" spc="-1" strike="noStrike">
                <a:solidFill>
                  <a:srgbClr val="4e3b30"/>
                </a:solidFill>
                <a:latin typeface="Franklin Gothic Book"/>
              </a:rPr>
              <a:t>&gt; afroamericano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e3b30"/>
                </a:solidFill>
                <a:latin typeface="Franklin Gothic Book"/>
              </a:rPr>
              <a:t>Por igual en hombre y mujer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e3b30"/>
                </a:solidFill>
                <a:latin typeface="Franklin Gothic Book"/>
              </a:rPr>
              <a:t>Enfermedad de ancianos. Mediana de edad 65 año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8" name="2 Imagen" descr="imagesCAUHHI18.jpg"/>
          <p:cNvPicPr/>
          <p:nvPr/>
        </p:nvPicPr>
        <p:blipFill>
          <a:blip r:embed="rId1"/>
          <a:stretch/>
        </p:blipFill>
        <p:spPr>
          <a:xfrm>
            <a:off x="6875640" y="2205000"/>
            <a:ext cx="1847520" cy="247644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7 Título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e3b30"/>
                </a:solidFill>
                <a:latin typeface="Franklin Gothic Book"/>
              </a:rPr>
              <a:t>Anorexia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e3b30"/>
                </a:solidFill>
                <a:latin typeface="Franklin Gothic Book"/>
              </a:rPr>
              <a:t>Astenia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e3b30"/>
                </a:solidFill>
                <a:latin typeface="Franklin Gothic Book"/>
              </a:rPr>
              <a:t>Perdida de peso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1" name="9 Imagen" descr="b3e9147507ea60ed2dc48573a40e0272FridaKahloRoots.jpg"/>
          <p:cNvPicPr/>
          <p:nvPr/>
        </p:nvPicPr>
        <p:blipFill>
          <a:blip r:embed="rId2"/>
          <a:stretch/>
        </p:blipFill>
        <p:spPr>
          <a:xfrm>
            <a:off x="4284720" y="3427560"/>
            <a:ext cx="3768840" cy="23778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7 Título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4e3b30"/>
                </a:solidFill>
                <a:latin typeface="Franklin Gothic Book"/>
              </a:rPr>
              <a:t>Lesiones Ósea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e3b30"/>
                </a:solidFill>
                <a:latin typeface="Franklin Gothic Book"/>
              </a:rPr>
              <a:t>Osteoporosi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e3b30"/>
                </a:solidFill>
                <a:latin typeface="Franklin Gothic Book"/>
              </a:rPr>
              <a:t>Lesiones osteolítica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e3b30"/>
                </a:solidFill>
                <a:latin typeface="Franklin Gothic Book"/>
              </a:rPr>
              <a:t>Fracturas patológica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e3b30"/>
                </a:solidFill>
                <a:latin typeface="Franklin Gothic Book"/>
              </a:rPr>
              <a:t>Dolor mecánico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e3b30"/>
                </a:solidFill>
                <a:latin typeface="Franklin Gothic Book"/>
              </a:rPr>
              <a:t>Aplastamiento vertebra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4" name="9 Imagen" descr="frida_kahlo1.jpg"/>
          <p:cNvPicPr/>
          <p:nvPr/>
        </p:nvPicPr>
        <p:blipFill>
          <a:blip r:embed="rId2"/>
          <a:stretch/>
        </p:blipFill>
        <p:spPr>
          <a:xfrm>
            <a:off x="5148360" y="1628640"/>
            <a:ext cx="2958840" cy="398304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1 Título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304920" y="1554120"/>
            <a:ext cx="86868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Franklin Gothic Book"/>
              </a:rPr>
              <a:t>Hiperproteinemia e Hipercalcemia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e3b30"/>
                </a:solidFill>
                <a:latin typeface="Franklin Gothic Book"/>
              </a:rPr>
              <a:t>Insuficiencia renal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e3b30"/>
                </a:solidFill>
                <a:latin typeface="Franklin Gothic Book"/>
              </a:rPr>
              <a:t>Síndrome hiperviscosidad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e3b30"/>
                </a:solidFill>
                <a:latin typeface="Franklin Gothic Book"/>
              </a:rPr>
              <a:t>Sangrado de mucosa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e3b30"/>
                </a:solidFill>
                <a:latin typeface="Franklin Gothic Book"/>
              </a:rPr>
              <a:t>Retinopatía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e3b30"/>
                </a:solidFill>
                <a:latin typeface="Franklin Gothic Book"/>
              </a:rPr>
              <a:t>Deshidratación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e3b30"/>
                </a:solidFill>
                <a:latin typeface="Franklin Gothic Book"/>
              </a:rPr>
              <a:t>Estreñimiento, nausea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e3b30"/>
                </a:solidFill>
                <a:latin typeface="Franklin Gothic Book"/>
              </a:rPr>
              <a:t>Litiasis renal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e3b30"/>
                </a:solidFill>
                <a:latin typeface="Franklin Gothic Book"/>
              </a:rPr>
              <a:t>Alteraciones neurológica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7" name="3 Imagen" descr="imagesCARIW37I.jpg"/>
          <p:cNvPicPr/>
          <p:nvPr/>
        </p:nvPicPr>
        <p:blipFill>
          <a:blip r:embed="rId2"/>
          <a:stretch/>
        </p:blipFill>
        <p:spPr>
          <a:xfrm>
            <a:off x="5076720" y="3357720"/>
            <a:ext cx="3529080" cy="269064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1 Título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4e3b30"/>
                </a:solidFill>
                <a:latin typeface="Franklin Gothic Book"/>
              </a:rPr>
              <a:t>Hematológica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es-ES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ES" sz="2800" spc="-1" strike="noStrike">
                <a:solidFill>
                  <a:srgbClr val="4e3b30"/>
                </a:solidFill>
                <a:latin typeface="Franklin Gothic Book"/>
              </a:rPr>
              <a:t>Anemia. Leucopenia. Trombopenia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4e3b30"/>
                </a:solidFill>
                <a:latin typeface="Franklin Gothic Book"/>
              </a:rPr>
              <a:t>Neurológica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ES" sz="2800" spc="-1" strike="noStrike">
                <a:solidFill>
                  <a:srgbClr val="4e3b30"/>
                </a:solidFill>
                <a:latin typeface="Franklin Gothic Book"/>
              </a:rPr>
              <a:t>Neuralgias. Polineuropatías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ES" sz="2800" spc="-1" strike="noStrike">
                <a:solidFill>
                  <a:srgbClr val="4e3b30"/>
                </a:solidFill>
                <a:latin typeface="Franklin Gothic Book"/>
              </a:rPr>
              <a:t>Compresión medular(proliferación mielomatosa), riesgo de paraplejia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4e3b30"/>
                </a:solidFill>
                <a:latin typeface="Franklin Gothic Book"/>
              </a:rPr>
              <a:t>Infección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ES" sz="2800" spc="-1" strike="noStrike">
                <a:solidFill>
                  <a:srgbClr val="4e3b30"/>
                </a:solidFill>
                <a:latin typeface="Franklin Gothic Book"/>
              </a:rPr>
              <a:t>Asociada a inmunodeficiencias, neutropenia, nefropatías, quimioterapia, características paciente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0" name="4 Imagen" descr="imagesCA7NZDN1.jpg"/>
          <p:cNvPicPr/>
          <p:nvPr/>
        </p:nvPicPr>
        <p:blipFill>
          <a:blip r:embed="rId2"/>
          <a:stretch/>
        </p:blipFill>
        <p:spPr>
          <a:xfrm>
            <a:off x="5932440" y="1413000"/>
            <a:ext cx="2984400" cy="18936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1 Título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304920" y="1557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e3b30"/>
                </a:solidFill>
                <a:latin typeface="Franklin Gothic Book"/>
              </a:rPr>
              <a:t>Enfermedad incurable con múltiples recaída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e3b30"/>
                </a:solidFill>
                <a:latin typeface="Franklin Gothic Book"/>
              </a:rPr>
              <a:t>Tratamiento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e3b30"/>
                </a:solidFill>
                <a:latin typeface="Franklin Gothic Book"/>
              </a:rPr>
              <a:t>Comorbilidad y edad del paciente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e3b30"/>
                </a:solidFill>
                <a:latin typeface="Franklin Gothic Book"/>
              </a:rPr>
              <a:t>Prolongar los periodos de remisión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e3b30"/>
                </a:solidFill>
                <a:latin typeface="Franklin Gothic Book"/>
              </a:rPr>
              <a:t>Disminuir la sintomatología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e3b30"/>
                </a:solidFill>
                <a:latin typeface="Franklin Gothic Book"/>
              </a:rPr>
              <a:t>Incrementar el bienestar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e3b30"/>
                </a:solidFill>
                <a:latin typeface="Franklin Gothic Book"/>
              </a:rPr>
              <a:t>Mejorar la calidad de vida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e3b30"/>
                </a:solidFill>
                <a:latin typeface="Franklin Gothic Book"/>
              </a:rPr>
              <a:t>Prolongar la supervivencia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3" name="3 Imagen" descr="imagesCAI5VN72.jpg"/>
          <p:cNvPicPr/>
          <p:nvPr/>
        </p:nvPicPr>
        <p:blipFill>
          <a:blip r:embed="rId2"/>
          <a:stretch/>
        </p:blipFill>
        <p:spPr>
          <a:xfrm>
            <a:off x="6156360" y="2884320"/>
            <a:ext cx="2376360" cy="299268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1 Título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179280" y="1481040"/>
            <a:ext cx="86868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e3b30"/>
                </a:solidFill>
                <a:latin typeface="Franklin Gothic Medium"/>
              </a:rPr>
              <a:t>Quimioterápicos y esteroides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e3b30"/>
                </a:solidFill>
                <a:latin typeface="Franklin Gothic Medium"/>
              </a:rPr>
              <a:t> </a:t>
            </a:r>
            <a:r>
              <a:rPr b="0" lang="es-ES" sz="2800" spc="-1" strike="noStrike">
                <a:solidFill>
                  <a:srgbClr val="4e3b30"/>
                </a:solidFill>
                <a:latin typeface="Franklin Gothic Medium"/>
              </a:rPr>
              <a:t>Talidomida. Lenalidomida. Bortezomib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e3b30"/>
                </a:solidFill>
                <a:latin typeface="Franklin Gothic Book"/>
              </a:rPr>
              <a:t>Acción angiogénica, inmunomoduladora y antineoplásica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60960" indent="-254160"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e3b30"/>
                </a:solidFill>
                <a:latin typeface="Franklin Gothic Book"/>
              </a:rPr>
              <a:t>Bloquea el desarrollo de los vasos sanguíneo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60960" indent="-254160"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e3b30"/>
                </a:solidFill>
                <a:latin typeface="Franklin Gothic Book"/>
              </a:rPr>
              <a:t>Inhibe el crecimiento y proliferación celular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60960" indent="-254160"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e3b30"/>
                </a:solidFill>
                <a:latin typeface="Franklin Gothic Book"/>
              </a:rPr>
              <a:t>Aumenta los NK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60960" indent="-254160"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e3b30"/>
                </a:solidFill>
                <a:latin typeface="Franklin Gothic Book"/>
              </a:rPr>
              <a:t>Eritropoyesi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60960" indent="-254160"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e3b30"/>
                </a:solidFill>
                <a:latin typeface="Franklin Gothic Book"/>
              </a:rPr>
              <a:t>Inhibe la anidación de las células plasmáticas en la médula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60960" indent="-254160"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e3b30"/>
                </a:solidFill>
                <a:latin typeface="Franklin Gothic Book"/>
              </a:rPr>
              <a:t>Incrementa la muerte celular(apoptosis)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6096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57399"/>
                </a:solidFill>
                <a:latin typeface="Franklin Gothic Book"/>
              </a:rPr>
              <a:t>	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push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7T20:13:04Z</dcterms:created>
  <dc:creator>Administrador</dc:creator>
  <dc:description/>
  <dc:language>en-US</dc:language>
  <cp:lastModifiedBy>ggg</cp:lastModifiedBy>
  <dcterms:modified xsi:type="dcterms:W3CDTF">2012-10-16T19:36:12Z</dcterms:modified>
  <cp:revision>68</cp:revision>
  <dc:subject/>
  <dc:title>Mieloma Multiple</dc:title>
</cp:coreProperties>
</file>